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B19-FE02-46B9-9C91-F3CC7AF0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ADD-4977-43F7-A205-EBBCD8B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68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68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3B1-F9A3-469E-AD18-40A235E4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536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560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536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560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D4B-1099-4015-8FEA-6DC9DAB3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845-0C06-4CDC-8B2D-5E83F02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003-8CD2-49A6-B147-624D7F5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68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7B6-6C17-4FBE-8371-B6BB75DA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137-2ABC-4A52-8CDC-CD0DD70F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0"/>
            <a:ext cx="5791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5D3-A106-46D5-9E49-E044F85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684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B33-086E-424E-A592-CAC0B7A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342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68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6840" y="391212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F58-D8B9-48D1-A799-24A0BB2E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6840" y="1523880"/>
            <a:ext cx="342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912120"/>
            <a:ext cx="7010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C1A-FF25-4C1A-963B-327851F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0720" y="640080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7A1-E63E-4E23-9DD1-DB504512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1449360"/>
            <a:ext cx="705636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  <a:ea typeface="Arial"/>
              </a:rPr>
              <a:t>Developing Controllers for Biped Humanoid Locomotion </a:t>
            </a:r>
            <a:endParaRPr b="0" lang="en-US" sz="48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00360" y="4616280"/>
            <a:ext cx="733104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Yariv Bachar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2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w Cen MT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July, 2004</a:t>
            </a:r>
            <a:endParaRPr b="0" lang="en-US" sz="3200" spc="-1" strike="noStrike">
              <a:solidFill>
                <a:srgbClr val="dddddd"/>
              </a:solidFill>
              <a:latin typeface="Tw Cen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705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68360" y="159228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052640" y="705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4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1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8414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313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413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8560" y="0"/>
            <a:ext cx="7934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ZMP Jacobian Counterbalance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5640" y="1233360"/>
            <a:ext cx="74534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Arial"/>
                <a:ea typeface="Arial"/>
              </a:rPr>
              <a:t>Overview: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 adapts humanoid predefined walking trajectories to reduce the deviations in dynamic stability criteria, in terms of the ZMP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 Improves walking performance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6254" t="17782" r="2777" b="20888"/>
          <a:stretch/>
        </p:blipFill>
        <p:spPr>
          <a:xfrm>
            <a:off x="2556000" y="3249720"/>
            <a:ext cx="5940360" cy="204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55640" y="5192640"/>
            <a:ext cx="748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99"/>
                </a:solidFill>
                <a:uFillTx/>
                <a:latin typeface="Arial"/>
                <a:ea typeface="Arial"/>
              </a:rPr>
              <a:t>Note: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can be </a:t>
            </a:r>
            <a:r>
              <a:rPr b="0" lang="en-GB" sz="2000" spc="-1" strike="noStrike">
                <a:solidFill>
                  <a:srgbClr val="dddddd"/>
                </a:solidFill>
                <a:latin typeface="Arial"/>
                <a:ea typeface="Arial"/>
              </a:rPr>
              <a:t>generalised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to other task-dependent Cartesian deviations (e.g. specific joint position coordinates, CoM Cartesian posi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309-41BC-4E9D-8260-F00421A12B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480" y="0"/>
            <a:ext cx="7294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The ZMP Jacobian Concept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5121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The ZMP’s position, </a:t>
            </a:r>
            <a:r>
              <a:rPr b="1" i="1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p</a:t>
            </a:r>
            <a:r>
              <a:rPr b="0" i="1" lang="en-US" sz="22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ZMP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, is a function of the system’s joint angles </a:t>
            </a:r>
            <a:r>
              <a:rPr b="1" i="1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q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To modify </a:t>
            </a:r>
            <a:r>
              <a:rPr b="1" i="1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p</a:t>
            </a:r>
            <a:r>
              <a:rPr b="0" i="1" lang="en-US" sz="22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ZMP,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, by ∆</a:t>
            </a:r>
            <a:r>
              <a:rPr b="1" i="1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p</a:t>
            </a:r>
            <a:r>
              <a:rPr b="0" i="1" lang="en-US" sz="22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ZMP 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in 3D space </a:t>
            </a:r>
            <a:r>
              <a:rPr b="0" lang="en-US" sz="2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 modify the joint angles vector </a:t>
            </a:r>
            <a:r>
              <a:rPr b="1" i="1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q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 by: 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3808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This </a:t>
            </a:r>
            <a:r>
              <a:rPr b="0" i="1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f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(•) relationship is a Jacobian matrix: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3808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3808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This Jacobian, a function of the “actual” joint angles </a:t>
            </a:r>
            <a:r>
              <a:rPr b="1" i="1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q</a:t>
            </a:r>
            <a:r>
              <a:rPr b="0" i="1" lang="en-US" sz="22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  <a:ea typeface="Arial"/>
              </a:rPr>
              <a:t>, maps the velocity vector in joint-space to ZMP velocity: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06760" y="1844640"/>
                <a:ext cx="1954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06760" y="3139920"/>
                <a:ext cx="1879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≡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M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330720" y="4079880"/>
                <a:ext cx="409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MP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MP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</m:sSub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924360" y="5902200"/>
                <a:ext cx="2436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2CB-FD93-4E15-91E2-085EABCA2F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47280" y="1341000"/>
            <a:ext cx="75121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The Counterbalance is done using specific joints, i.e. only those joints trajectories are adapted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Ideally, these should be the redundant joints.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The more joints used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more computation!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The adaptation is performed iteratively, modifying only a fraction of the desired change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Those modifications are accumulated to create a final, more balanced motion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Also, the local neighborhood of the changes are interpolated – smoothed!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ZMP Compensation Pseudo-code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05120" y="1341360"/>
            <a:ext cx="6735600" cy="505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F11-F651-4022-BF8A-50302C29B7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onvergence Issue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1984320"/>
            <a:ext cx="20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0560" y="1984320"/>
            <a:ext cx="20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0560" y="1984320"/>
            <a:ext cx="20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0560" y="1984320"/>
            <a:ext cx="20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0560" y="1984320"/>
            <a:ext cx="20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0560" y="1984320"/>
            <a:ext cx="20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7400" y="3005280"/>
            <a:ext cx="40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3105" t="0" r="9810" b="0"/>
          <a:stretch/>
        </p:blipFill>
        <p:spPr>
          <a:xfrm>
            <a:off x="1614600" y="2054160"/>
            <a:ext cx="7284960" cy="26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685-394C-46AD-8192-BC7CCFA40A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792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Humanoid Motion Generation I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5121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13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Arial"/>
                <a:ea typeface="Arial"/>
              </a:rPr>
              <a:t>Problem: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Automatic generation or planning of full-body motion for humanoids is a complex computational challenge: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lvl="1" marL="952560" indent="-49536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Large number of DOFs.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lvl="1" marL="952560" indent="-49536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ntricate kinematic and dynamic models.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lvl="1" marL="952560" indent="-49536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Stability.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marL="577800" indent="-577800">
              <a:lnSpc>
                <a:spcPct val="13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Arial"/>
                <a:ea typeface="Arial"/>
              </a:rPr>
              <a:t>Strategies: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952560" indent="-495360">
              <a:lnSpc>
                <a:spcPct val="130000"/>
              </a:lnSpc>
              <a:spcBef>
                <a:spcPts val="499"/>
              </a:spcBef>
              <a:buClr>
                <a:srgbClr val="33cc33"/>
              </a:buClr>
              <a:buSzPct val="8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Arial"/>
                <a:ea typeface="宋体"/>
              </a:rPr>
              <a:t>Motion generation applications with rich GUIs.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lvl="1" marL="952560" indent="-495360">
              <a:lnSpc>
                <a:spcPct val="130000"/>
              </a:lnSpc>
              <a:spcBef>
                <a:spcPts val="451"/>
              </a:spcBef>
              <a:buClr>
                <a:srgbClr val="33cc33"/>
              </a:buClr>
              <a:buSzPct val="80000"/>
              <a:buFont typeface="Tw Cen MT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Tw Cen MT"/>
                <a:ea typeface="宋体"/>
              </a:rPr>
              <a:t>Human motion capture using optical tracking devices.</a:t>
            </a:r>
            <a:endParaRPr b="0" lang="en-US" sz="1800" spc="-1" strike="noStrike">
              <a:solidFill>
                <a:srgbClr val="dddddd"/>
              </a:solidFill>
              <a:latin typeface="Tw Cen MT"/>
            </a:endParaRPr>
          </a:p>
          <a:p>
            <a:pPr lvl="1" marL="952560" indent="-495360">
              <a:lnSpc>
                <a:spcPct val="130000"/>
              </a:lnSpc>
              <a:spcBef>
                <a:spcPts val="451"/>
              </a:spcBef>
              <a:buClr>
                <a:srgbClr val="33cc33"/>
              </a:buClr>
              <a:buSzPct val="80000"/>
              <a:buFont typeface="Tw Cen MT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Tw Cen MT"/>
                <a:ea typeface="宋体"/>
              </a:rPr>
              <a:t>Generation relied on kinematics/dynamics models (obstacle avoidance).</a:t>
            </a:r>
            <a:endParaRPr b="0" lang="en-US" sz="18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9A7-BA28-4386-8BE2-205528BADB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2400" y="0"/>
            <a:ext cx="8191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Humanoid Motion Generation II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59636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550"/>
              </a:spcBef>
              <a:buClr>
                <a:srgbClr val="ff9933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Arial"/>
                <a:ea typeface="Arial"/>
              </a:rPr>
              <a:t>The approach: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宋体"/>
              </a:rPr>
              <a:t>motion definitions, specifying </a:t>
            </a:r>
            <a:r>
              <a:rPr b="0" i="1" lang="en-GB" sz="2200" spc="-1" strike="noStrike">
                <a:solidFill>
                  <a:srgbClr val="3bbeff"/>
                </a:solidFill>
                <a:latin typeface="Arial"/>
                <a:ea typeface="宋体"/>
              </a:rPr>
              <a:t>via</a:t>
            </a:r>
            <a:r>
              <a:rPr b="0" lang="en-GB" sz="2200" spc="-1" strike="noStrike">
                <a:solidFill>
                  <a:srgbClr val="3bbeff"/>
                </a:solidFill>
                <a:latin typeface="Arial"/>
                <a:ea typeface="宋体"/>
              </a:rPr>
              <a:t> </a:t>
            </a:r>
            <a:r>
              <a:rPr b="0" i="1" lang="en-GB" sz="2200" spc="-1" strike="noStrike">
                <a:solidFill>
                  <a:srgbClr val="3bbeff"/>
                </a:solidFill>
                <a:latin typeface="Arial"/>
                <a:ea typeface="宋体"/>
              </a:rPr>
              <a:t>points</a:t>
            </a:r>
            <a:r>
              <a:rPr b="0" i="1" lang="en-GB" sz="2200" spc="-1" strike="noStrike">
                <a:solidFill>
                  <a:srgbClr val="dddddd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宋体"/>
              </a:rPr>
              <a:t>per joint + </a:t>
            </a:r>
            <a:r>
              <a:rPr b="0" lang="en-GB" sz="2200" spc="-1" strike="noStrike">
                <a:solidFill>
                  <a:srgbClr val="3bbeff"/>
                </a:solidFill>
                <a:latin typeface="Arial"/>
                <a:ea typeface="宋体"/>
              </a:rPr>
              <a:t>time frame sequence</a:t>
            </a: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宋体"/>
              </a:rPr>
              <a:t> corresponding to these via points.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711360" indent="-711360">
              <a:lnSpc>
                <a:spcPct val="130000"/>
              </a:lnSpc>
              <a:spcBef>
                <a:spcPts val="601"/>
              </a:spcBef>
              <a:buClr>
                <a:srgbClr val="ff9933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Arial"/>
                <a:ea typeface="Arial"/>
              </a:rPr>
              <a:t>Trajectory Interpolation: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1066680" indent="-609480">
              <a:lnSpc>
                <a:spcPct val="130000"/>
              </a:lnSpc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Arial"/>
              </a:rPr>
              <a:t>Essential to apply smoothness, otherwise motions would result in “</a:t>
            </a:r>
            <a:r>
              <a:rPr b="0" i="1" lang="en-GB" sz="2200" spc="-1" strike="noStrike">
                <a:solidFill>
                  <a:srgbClr val="dddddd"/>
                </a:solidFill>
                <a:latin typeface="Arial"/>
                <a:ea typeface="Arial"/>
              </a:rPr>
              <a:t>bang-bang</a:t>
            </a: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Arial"/>
              </a:rPr>
              <a:t>”. 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lvl="1" marL="1066680" indent="-609480">
              <a:lnSpc>
                <a:spcPct val="130000"/>
              </a:lnSpc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Arial"/>
              </a:rPr>
              <a:t>Motions defined only in positional terms </a:t>
            </a:r>
            <a:r>
              <a:rPr b="0" lang="en-GB" sz="2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Arial"/>
              </a:rPr>
              <a:t> produce unstable/undesirable motion.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lvl="1" marL="1066680" indent="-609480">
              <a:lnSpc>
                <a:spcPct val="130000"/>
              </a:lnSpc>
              <a:spcBef>
                <a:spcPts val="550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dddddd"/>
                </a:solidFill>
                <a:latin typeface="Arial"/>
                <a:ea typeface="Arial"/>
              </a:rPr>
              <a:t>Given motion definitions, interpolate the joint angle values within each two via points in the sequences.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27280" y="2960640"/>
            <a:ext cx="7216560" cy="33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?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xm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versio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1.0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encoding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UTF-8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?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Verdana"/>
                <a:ea typeface="宋体"/>
              </a:rPr>
              <a:t>GLOBAL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宋体"/>
              </a:rPr>
              <a:t>DEFIN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JOINT_DEF numbe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0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joint_0_name &lt;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/JOINT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JOINT_DEF numbe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n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joint_n_name &lt;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/JOINT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宋体"/>
              </a:rPr>
              <a:t>/DEFIN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宋体"/>
              </a:rPr>
              <a:t>MOTION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SEQ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FIRST_STEP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com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Start from standing; right leg forward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JO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joint_i_name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0.2 0.15 0 &lt;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/JO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JO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joint_m_name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-0.3 -0.3 -0.3 &lt;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/JO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TIME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0" lang="en-US" sz="1200" spc="-1" strike="noStrike">
                <a:solidFill>
                  <a:srgbClr val="008000"/>
                </a:solidFill>
                <a:latin typeface="Verdana"/>
                <a:ea typeface="宋体"/>
              </a:rPr>
              <a:t>"interval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0.512 &lt;</a:t>
            </a:r>
            <a:r>
              <a:rPr b="1" lang="en-US" sz="1200" spc="-1" strike="noStrike">
                <a:solidFill>
                  <a:srgbClr val="ff6600"/>
                </a:solidFill>
                <a:latin typeface="Verdana"/>
                <a:ea typeface="宋体"/>
              </a:rPr>
              <a:t>/TIME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宋体"/>
              </a:rPr>
              <a:t>/SEQ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宋体"/>
              </a:rPr>
              <a:t>/MOTION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Verdana"/>
                <a:ea typeface="宋体"/>
              </a:rPr>
              <a:t>/GLOBAL_DE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690-ED36-4D08-A738-5CE44F4064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Time for a Demo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w Cen MT"/>
              </a:rPr>
              <a:t>Sit back and enjoy ….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37040" y="2384280"/>
            <a:ext cx="4284360" cy="36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1F2-2136-4888-AA4E-307AF2021E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Significance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92000" y="1233360"/>
            <a:ext cx="73422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  <a:ea typeface="Arial"/>
              </a:rPr>
              <a:t>Independence of feet-ground contact states.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  <a:ea typeface="Arial"/>
              </a:rPr>
              <a:t>An assurance that the ZMP can characterise the humanoid’s global dynamics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cc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99"/>
                </a:solidFill>
                <a:latin typeface="Arial"/>
                <a:ea typeface="Arial"/>
              </a:rPr>
              <a:t>ZMP can be utilised for legged robots controller design. 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  <a:ea typeface="Arial"/>
              </a:rPr>
              <a:t>Pedantic description of the development of a simulated humanoid locomotion controller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ffcc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99"/>
                </a:solidFill>
                <a:latin typeface="Arial"/>
                <a:ea typeface="Arial"/>
              </a:rPr>
              <a:t>Large engineering contribution.</a:t>
            </a:r>
            <a:endParaRPr b="0" lang="en-US" sz="22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99"/>
                </a:solidFill>
                <a:latin typeface="Arial"/>
                <a:ea typeface="Arial"/>
              </a:rPr>
              <a:t>Combination of sophisticated humanoid simulation with ZMP based locomotion</a:t>
            </a:r>
            <a:r>
              <a:rPr b="0" lang="en-GB" sz="1800" spc="-1" strike="noStrike">
                <a:solidFill>
                  <a:srgbClr val="ffcc99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382-E305-4A08-8D68-694A80E40A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Future Work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55280" y="1341360"/>
            <a:ext cx="73422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  <a:ea typeface="Arial"/>
              </a:rPr>
              <a:t>The method (relating ZMP to dynamic balance control).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  <a:ea typeface="Arial"/>
              </a:rPr>
              <a:t>Analytically developing the ZMP Jacobian.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  <a:ea typeface="Arial"/>
              </a:rPr>
              <a:t>The implementation.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  <a:ea typeface="Arial"/>
              </a:rPr>
              <a:t>ZMP Jacobian Approximation (e.g. </a:t>
            </a:r>
            <a:r>
              <a:rPr b="0" lang="en-GB" sz="2400" spc="-1" strike="noStrike">
                <a:solidFill>
                  <a:srgbClr val="99ffcc"/>
                </a:solidFill>
                <a:latin typeface="Arial"/>
                <a:ea typeface="Arial"/>
              </a:rPr>
              <a:t>recursive regression learning)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  <a:ea typeface="Arial"/>
              </a:rPr>
              <a:t>The experiments/applicability of proposed method.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  <a:ea typeface="Arial"/>
              </a:rPr>
              <a:t>Applying to various humanoid models.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76F-3D89-4538-AF9B-154A2ABB28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Future Work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55280" y="1341360"/>
            <a:ext cx="73422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  <a:ea typeface="Arial"/>
              </a:rPr>
              <a:t>The method (relating ZMP to dynamic balance control).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  <a:ea typeface="Arial"/>
              </a:rPr>
              <a:t>Analytically developing the ZMP Jacobian.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  <a:ea typeface="Arial"/>
              </a:rPr>
              <a:t>The implementation.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  <a:ea typeface="Arial"/>
              </a:rPr>
              <a:t>ZMP Jacobian Approximation (e.g. </a:t>
            </a:r>
            <a:r>
              <a:rPr b="0" lang="en-GB" sz="2400" spc="-1" strike="noStrike">
                <a:solidFill>
                  <a:srgbClr val="99ffcc"/>
                </a:solidFill>
                <a:latin typeface="Arial"/>
                <a:ea typeface="Arial"/>
              </a:rPr>
              <a:t>recursive regression learning)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  <a:ea typeface="Arial"/>
              </a:rPr>
              <a:t>The experiments/applicability of proposed method.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  <a:ea typeface="Arial"/>
              </a:rPr>
              <a:t>Applying to various humanoid models.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F79-53F6-4DD6-B19D-0B245DB904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26920" y="0"/>
            <a:ext cx="6546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Presentation Outline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7640" y="1376280"/>
            <a:ext cx="72183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w Cen MT"/>
              </a:rPr>
              <a:t>Project Description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cc33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w Cen MT"/>
              </a:rPr>
              <a:t>The Zero Moment Point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w Cen MT"/>
              </a:rPr>
              <a:t>Project Architecture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w Cen MT"/>
              </a:rPr>
              <a:t>Methodology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w Cen MT"/>
              </a:rPr>
              <a:t>Key Challenges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9933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w Cen MT"/>
              </a:rPr>
              <a:t>ZMP Jacobian Counterbalance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66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w Cen MT"/>
              </a:rPr>
              <a:t>Demo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w Cen MT"/>
              </a:rPr>
              <a:t>Significance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w Cen MT"/>
              </a:rPr>
              <a:t>Future work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05C-26DD-4463-8087-043317D9F0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Project Description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6430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cc33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33"/>
                </a:solidFill>
                <a:uFillTx/>
                <a:latin typeface="Tw Cen MT"/>
              </a:rPr>
              <a:t>Motivation:</a:t>
            </a:r>
            <a:r>
              <a:rPr b="0" lang="en-US" sz="2400" spc="-1" strike="noStrike">
                <a:solidFill>
                  <a:srgbClr val="33cc33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Dynamically stable locomotion is essential for developing real-world humanoid robots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33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ff"/>
                </a:solidFill>
                <a:uFillTx/>
                <a:latin typeface="Tw Cen MT"/>
              </a:rPr>
              <a:t>Key challenge: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 Devise a control scheme which ensures robust and stable walking pattern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w Cen MT"/>
              </a:rPr>
              <a:t>Principle goal: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 Develop a natural looking walking gait for a 22DOF humanoid robot simulation with full-contact physics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Incorporate Zero Moment Point (ZMP) control for generating dynamically stabled walking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4DE-6BAA-4FDD-849E-B0F39103B6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9600" y="-2700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The Zero-Moment Point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268280"/>
            <a:ext cx="6931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3bb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bbeff"/>
                </a:solidFill>
                <a:uFillTx/>
                <a:latin typeface="Arial"/>
                <a:ea typeface="Arial"/>
              </a:rPr>
              <a:t>Definition: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 point on ground, about which net moment of inertial forces and gravity forces has no component along the horizontal plane. 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16278" b="0"/>
          <a:stretch/>
        </p:blipFill>
        <p:spPr>
          <a:xfrm>
            <a:off x="3246480" y="3824280"/>
            <a:ext cx="4503600" cy="25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68E-313E-4AEB-9807-A5F010AB6D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0920" y="1592280"/>
            <a:ext cx="6797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15640" y="7920"/>
            <a:ext cx="6566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The Zero-Moment Point II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96888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宋体"/>
              </a:rPr>
              <a:t>Support Polygo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宋体"/>
              </a:rPr>
              <a:t> -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  <a:ea typeface="宋体"/>
              </a:rPr>
              <a:t> </a:t>
            </a:r>
            <a:r>
              <a:rPr b="0" lang="en-GB" sz="2400" spc="-1" strike="noStrike">
                <a:solidFill>
                  <a:srgbClr val="dddddd"/>
                </a:solidFill>
                <a:latin typeface="Tw Cen MT"/>
                <a:ea typeface="宋体"/>
              </a:rPr>
              <a:t> the convex hull of the foot support area.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  <a:ea typeface="宋体"/>
              </a:rPr>
              <a:t>If ZMP inside support polygon </a:t>
            </a:r>
            <a:r>
              <a:rPr b="0" lang="en-GB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  <a:ea typeface="宋体"/>
              </a:rPr>
              <a:t> system is dynamically balanced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0" t="26497" r="0" b="0"/>
          <a:stretch/>
        </p:blipFill>
        <p:spPr>
          <a:xfrm>
            <a:off x="2209680" y="3645000"/>
            <a:ext cx="637236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674-CB31-46F3-A4CF-D1FD5AD5B9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92720" y="2997360"/>
            <a:ext cx="2880000" cy="34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340000" y="3789360"/>
                <a:ext cx="5516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¨"/>
                                          </m:accPr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¨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40000" y="2421000"/>
                <a:ext cx="55022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M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¨"/>
                                          </m:accPr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¨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y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905120" y="1565280"/>
            <a:ext cx="4170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ch 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alculating the ZMP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45817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The ZMP has to satisfy: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00040" y="2057400"/>
                <a:ext cx="7672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*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187280" y="2924280"/>
            <a:ext cx="5077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MP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MP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MP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he Z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number of lin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mass of link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dia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x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y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z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: link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s inertia ten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-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]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ravity accel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ink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s center-of-m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ω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link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s angular velocit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-187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[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] : moment around Z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789360"/>
            <a:ext cx="88560" cy="1116000"/>
          </a:xfrm>
          <a:custGeom>
            <a:avLst/>
            <a:gdLst>
              <a:gd name="textAreaLeft" fmla="*/ 56520 w 88560"/>
              <a:gd name="textAreaRight" fmla="*/ 88920 w 88560"/>
              <a:gd name="textAreaTop" fmla="*/ 28800 h 1116000"/>
              <a:gd name="textAreaBottom" fmla="*/ 1087200 h 11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084640"/>
            <a:ext cx="88920" cy="870120"/>
          </a:xfrm>
          <a:custGeom>
            <a:avLst/>
            <a:gdLst>
              <a:gd name="textAreaLeft" fmla="*/ 56880 w 88920"/>
              <a:gd name="textAreaRight" fmla="*/ 89280 w 88920"/>
              <a:gd name="textAreaTop" fmla="*/ 22680 h 870120"/>
              <a:gd name="textAreaBottom" fmla="*/ 847440 h 87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40766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80" y="513252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Times New Roman"/>
              </a:rPr>
              <a:t>comp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Times New Roman"/>
              </a:rPr>
              <a:t>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277-940E-4832-8505-D14C12222F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Project Architecture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4360" y="1341000"/>
            <a:ext cx="471024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Robot Model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16040" indent="-262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Based on Sony QRIO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274680" indent="-274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World and Physics Model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16040" indent="-262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Friction, Gravity, Mass, etc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274680" indent="-274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Controller: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16040" indent="-262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Balance Algorithms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716040" indent="-262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Motion Generation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716040" indent="-262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Supervisor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1" marL="716040" indent="-262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Input/Output (Visualization/Statistics)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96000" y="1305000"/>
            <a:ext cx="2192400" cy="1679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696000" y="4761000"/>
            <a:ext cx="2187720" cy="167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696000" y="3033720"/>
            <a:ext cx="2192400" cy="167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9B0-077A-4B43-B8E9-FF6BC58C7E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Methodology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8920" y="1449360"/>
            <a:ext cx="53290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33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w Cen MT"/>
              </a:rPr>
              <a:t>Webots</a:t>
            </a:r>
            <a:r>
              <a:rPr b="0" lang="en-US" sz="2400" spc="-1" strike="noStrike" baseline="30000">
                <a:solidFill>
                  <a:srgbClr val="9933ff"/>
                </a:solidFill>
                <a:latin typeface="Tw Cen MT"/>
              </a:rPr>
              <a:t>TM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mobile robotics simulation software.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ddddd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Programming in </a:t>
            </a:r>
            <a:r>
              <a:rPr b="0" lang="en-US" sz="2400" spc="-1" strike="noStrike">
                <a:solidFill>
                  <a:srgbClr val="9933ff"/>
                </a:solidFill>
                <a:latin typeface="Tw Cen MT"/>
              </a:rPr>
              <a:t>C/C++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 on </a:t>
            </a:r>
            <a:r>
              <a:rPr b="0" lang="en-US" sz="2400" spc="-1" strike="noStrike">
                <a:solidFill>
                  <a:srgbClr val="9933ff"/>
                </a:solidFill>
                <a:latin typeface="Tw Cen MT"/>
              </a:rPr>
              <a:t>Linux 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Platform (also IPC)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33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w Cen MT"/>
              </a:rPr>
              <a:t>Open Dynamics Engine (ODE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) - rigid body dynamics simulation library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33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w Cen MT"/>
              </a:rPr>
              <a:t>CGAL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 - Computational Geometry Algorithms Library written in C++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33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w Cen MT"/>
              </a:rPr>
              <a:t>Arabica</a:t>
            </a:r>
            <a:r>
              <a:rPr b="0" lang="en-US" sz="2400" spc="-1" strike="noStrike">
                <a:solidFill>
                  <a:srgbClr val="dddddd"/>
                </a:solidFill>
                <a:latin typeface="Tw Cen MT"/>
              </a:rPr>
              <a:t> – a C++ XML parser toolkit, providing SAX2 and DOM implementations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2057400" cy="16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985080" y="2997360"/>
            <a:ext cx="1996920" cy="777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804000" y="4113360"/>
            <a:ext cx="2263680" cy="59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F43-396B-4EC3-8643-2A3C94ED9B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Key Challenges</a:t>
            </a:r>
            <a:endParaRPr b="0" lang="en-US" sz="40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92000" y="1520640"/>
            <a:ext cx="74516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Arial"/>
              </a:rPr>
              <a:t>The “Inverse problem”: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Given a stable ZMP trajectory, produce joint trajectories”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Arial"/>
              </a:rPr>
              <a:t>Full access to dynamic information in Webots: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Most dynamic stability algorithms require: mass, inertia, angular velocity per link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Collaboration with Olivier Michel and Pascal Cominoli (EPFL – Switzerland).</a:t>
            </a:r>
            <a:endParaRPr b="0" lang="en-US" sz="2000" spc="-1" strike="noStrike">
              <a:solidFill>
                <a:srgbClr val="dddddd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Arial"/>
              </a:rPr>
              <a:t>Motion pattern generation:</a:t>
            </a:r>
            <a:endParaRPr b="0" lang="en-US" sz="2800" spc="-1" strike="noStrike">
              <a:solidFill>
                <a:srgbClr val="dddddd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How to get basic motion data to work with.</a:t>
            </a:r>
            <a:endParaRPr b="0" lang="en-US" sz="2400" spc="-1" strike="noStrike">
              <a:solidFill>
                <a:srgbClr val="dddddd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riv Bach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841-A9FB-415E-BD49-8DF8A80A98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/9/2004</a:t>
            </a:r>
          </a:p>
        </p:txBody>
      </p:sp>
    </p:spTree>
  </p:cSld>
  <p:transition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yarivus</cp:lastModifiedBy>
  <dcterms:modified xsi:type="dcterms:W3CDTF">2004-09-15T08:39:57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